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0F7-1497-4122-8DB4-0EE760A7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EA7-8EEB-4B7F-AB19-88FFAE44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4E4-9EC1-4F1B-B0B5-F222DB82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9B0-669F-4873-B15E-D12EAE72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A74-AAA0-43F6-804A-B04EBD98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85F-D4D7-498D-B045-489B68C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57D-E988-4787-B1AE-39607D9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158-D4DD-4EC1-BBA8-F806B48E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39A-AAFC-4969-8B73-F0355BE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B9A-DED0-4F87-BC36-E9ECA8A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DAA-F854-4C59-8C49-073CA98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239-7D30-4D5C-B122-C49ADD5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7B8-973F-4342-94CA-AAEB4FADC0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rc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560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412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96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4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88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5000" y="5445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8680" y="544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868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812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30:21Z</dcterms:modified>
  <cp:revision>69</cp:revision>
  <dc:subject/>
  <dc:title>Folie 1</dc:title>
</cp:coreProperties>
</file>